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62BFA-ACFC-4BE0-A7A0-14EE13873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AAE04-2681-46BE-8C5C-4D67FAEF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6C2DC-9D95-422B-BE0C-5D00E7EB5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BEF32-3B91-45FE-BD98-FE0B5AD12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ABEC-0A9D-461D-96F5-0671B63D8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5169-ECBE-4AA4-8E5E-B5AD2726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1930-A894-4494-8EE1-07BDB036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02272-6BF8-4611-853A-0270F3DEB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9C1D-29A4-4B1E-AB59-3B8FF5AB4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5E7DA-DBB2-4532-8B16-03F8BA5C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7869-C8B9-4401-BD74-E77970F9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3BA5-1DFD-49F9-AB19-AE7FA33A6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A57E-0466-42D7-95C1-03ADE65FD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A    TECTÓNICA    DE    PLACAS</a:t>
            </a:r>
            <a:endParaRPr b="0" lang="en-US" sz="2800" spc="-1" strike="noStrike">
              <a:solidFill>
                <a:srgbClr val="000000"/>
              </a:solidFill>
              <a:latin typeface="Times New Roman"/>
            </a:endParaRPr>
          </a:p>
        </p:txBody>
      </p:sp>
      <p:sp>
        <p:nvSpPr>
          <p:cNvPr id="42" name="PlaceHolder 2"/>
          <p:cNvSpPr>
            <a:spLocks noGrp="1"/>
          </p:cNvSpPr>
          <p:nvPr>
            <p:ph/>
          </p:nvPr>
        </p:nvSpPr>
        <p:spPr>
          <a:xfrm>
            <a:off x="456840" y="838080"/>
            <a:ext cx="8381880" cy="55627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LA TECTÓNICA  DE  PLACAS</a:t>
            </a:r>
            <a:r>
              <a:rPr b="0" lang="es-ES_tradnl" sz="1800" spc="-1" strike="noStrike">
                <a:solidFill>
                  <a:srgbClr val="ffffff"/>
                </a:solidFill>
                <a:latin typeface="Times New Roman"/>
              </a:rPr>
              <a:t>   ES UNA TEORÍA UNIFICADORA  DE  LA DINÁMICA GLOBAL  DEL  PLANETA,   QUE    INTEGRA   EN  UN  MODELO  CONGRUENTE   LAS   NOCIONES Y  CONOCIMIENTOS   SOBRE   LA EVOLUCIÓN   DE  LOS  CONTINENTES   Y  FONDOS OCEÁNICOS,  Y  QUE   PERMITE   EXPLICAR,   DE   MANERA   COHERENTE,   LA  DISTRIBUCIÓN  DE  LOS  DIFERENTES   ELEMENTOS  Y  PROCESOS  GEOLÓGICOS  QUE  AFECTAN  Y HAN  EFECTADO  HISTÓRICAMENTE  A LA  TIERR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FORMULADA POR </a:t>
            </a:r>
            <a:r>
              <a:rPr b="1" lang="es-ES_tradnl" sz="1800" spc="-1" strike="noStrike">
                <a:solidFill>
                  <a:srgbClr val="ffffff"/>
                </a:solidFill>
                <a:latin typeface="Times New Roman"/>
              </a:rPr>
              <a:t>TUZO   WILSON,  </a:t>
            </a:r>
            <a:r>
              <a:rPr b="0" lang="es-ES_tradnl" sz="1800" spc="-1" strike="noStrike">
                <a:solidFill>
                  <a:srgbClr val="ffffff"/>
                </a:solidFill>
                <a:latin typeface="Times New Roman"/>
              </a:rPr>
              <a:t> EN  1965,   LUEGO DE  DESCRIBIR  UNA  RED  CONTINUA  E   INTEGRADA  DE   DORSALES,   FALLAS  TRANSFORMANTES  Y  ZONAS DE   SUBDUCCIÓN  EN  LOS  FONDOS OCEÁNICOS,   QUE  LIMITABAN  GRANDES Y  RÍGIDAS PLACAS QUE  CONFORMABAN    LA  SUPERFICIE   DEL  PLANETA.   FUERON,  POSTERIORMENTE,   </a:t>
            </a:r>
            <a:r>
              <a:rPr b="1" lang="es-ES_tradnl" sz="1800" spc="-1" strike="noStrike">
                <a:solidFill>
                  <a:srgbClr val="ffffff"/>
                </a:solidFill>
                <a:latin typeface="Times New Roman"/>
              </a:rPr>
              <a:t>MORGAN</a:t>
            </a:r>
            <a:r>
              <a:rPr b="0" lang="es-ES_tradnl" sz="1800" spc="-1" strike="noStrike">
                <a:solidFill>
                  <a:srgbClr val="ffffff"/>
                </a:solidFill>
                <a:latin typeface="Times New Roman"/>
              </a:rPr>
              <a:t>  Y </a:t>
            </a:r>
            <a:r>
              <a:rPr b="1" lang="es-ES_tradnl" sz="1800" spc="-1" strike="noStrike">
                <a:solidFill>
                  <a:srgbClr val="ffffff"/>
                </a:solidFill>
                <a:latin typeface="Times New Roman"/>
              </a:rPr>
              <a:t>LE  PICHON</a:t>
            </a:r>
            <a:r>
              <a:rPr b="0" lang="es-ES_tradnl" sz="1800" spc="-1" strike="noStrike">
                <a:solidFill>
                  <a:srgbClr val="ffffff"/>
                </a:solidFill>
                <a:latin typeface="Times New Roman"/>
              </a:rPr>
              <a:t>  QUIENES,   INDEPENDIENTEMENTE,  AMBOS EN 1968,  CUANTIFICARON   LA GEOMETRÍA DE  LAS PLACA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 ESENCIAL,  LA  TEORÍA   SOSTIENE   QUE  LA  LITÓSFERA   SE  QUIEBRA  Y  SE   SEPARA  EN  PLACAS,  QUE  SE  MUEVEN INDEPENDIENTES  UNAS DE  OTRAS,   RESPONDIENDO  A  FLUJOS  DE   CONVECCIÓN  DEL  MANTO  SUPERIO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GEOGRAFÍA     DE     PLACAS</a:t>
            </a:r>
            <a:endParaRPr b="0" lang="en-US" sz="2000" spc="-1" strike="noStrike">
              <a:solidFill>
                <a:srgbClr val="000000"/>
              </a:solidFill>
              <a:latin typeface="Times New Roman"/>
            </a:endParaRPr>
          </a:p>
        </p:txBody>
      </p:sp>
      <p:sp>
        <p:nvSpPr>
          <p:cNvPr id="60" name="PlaceHolder 2"/>
          <p:cNvSpPr>
            <a:spLocks noGrp="1"/>
          </p:cNvSpPr>
          <p:nvPr>
            <p:ph/>
          </p:nvPr>
        </p:nvSpPr>
        <p:spPr>
          <a:xfrm>
            <a:off x="304920" y="533160"/>
            <a:ext cx="8610480" cy="60195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LA  TECTÓNICA  DE  PLACAS  ES  HOY  UNA  TEORÍA  FIRMEMENTE   ESTABLECIDA  Y ACEPTADA,   COMO  LA  TEORÍA  FUNDAMENTAL DE   LA DINÁMICA  DE LA TIERRA.   ELLA  FUE  USADA  INICIALMENTE  PARA EXPLICAR   EL SIGNIFICADO  DE  LOS   RASGOS  OCEÁNICOS,  PERO   HOY,  EL  ÉNFASIS SE  HA PUESTO  EN  EL  ESTUDIO  DE   LOS  CONTINENTES,  DÓNDE   LA  MAYOR   PARTE  DE  LAS  OBSERVACIONE   PREVIAS   HAN  COMENZADO  A  SER  REEXAMINADAS  A  LA  LUZ  DE    LA TECTÓNICA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BORDES  DE  LAS  PLACAS  SON LOS  ELEMENTOS  ESTRUCTURALES  MAS  SIGNIFICATIVOS  DE  LA TIERRA,  DEBIDO   QUE  ELLOS  REFLEJAN  LA  DINÁMICA  INTERNA  DEL  PLANETA.  LA  MAYOR  PARTE  DE LA  ACTVIDAD  TECTÓNICA   OCURRE  EN  LOS  BORDES  DE  PLACA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UEVA  GEOGRAFÍA  DE  LA  TECTÓNICA  DE   PLACAS  ESTABLECE  QUE  LA  CAPA   EXTERNA  RÍGIDA   DEL  PLANETA ,  </a:t>
            </a:r>
            <a:r>
              <a:rPr b="0" i="1" lang="es-ES_tradnl" sz="1800" spc="-1" strike="noStrike">
                <a:solidFill>
                  <a:srgbClr val="ffffff"/>
                </a:solidFill>
                <a:latin typeface="Times New Roman"/>
              </a:rPr>
              <a:t>LA  LITOSFERA</a:t>
            </a:r>
            <a:r>
              <a:rPr b="0" lang="es-ES_tradnl" sz="1800" spc="-1" strike="noStrike">
                <a:solidFill>
                  <a:srgbClr val="ffffff"/>
                </a:solidFill>
                <a:latin typeface="Times New Roman"/>
              </a:rPr>
              <a:t>,   SE  DIVIDE  EN UN  MOZAICO  DE   </a:t>
            </a:r>
            <a:r>
              <a:rPr b="0" i="1" lang="es-ES_tradnl" sz="1800" spc="-1" strike="noStrike">
                <a:solidFill>
                  <a:srgbClr val="ffffff"/>
                </a:solidFill>
                <a:latin typeface="Times New Roman"/>
              </a:rPr>
              <a:t>SIETE  PLACAS  MAYORES</a:t>
            </a:r>
            <a:r>
              <a:rPr b="0" lang="es-ES_tradnl" sz="1800" spc="-1" strike="noStrike">
                <a:solidFill>
                  <a:srgbClr val="ffffff"/>
                </a:solidFill>
                <a:latin typeface="Times New Roman"/>
              </a:rPr>
              <a:t>  Y  VARIAS   </a:t>
            </a:r>
            <a:r>
              <a:rPr b="0" i="1" lang="es-ES_tradnl" sz="1800" spc="-1" strike="noStrike">
                <a:solidFill>
                  <a:srgbClr val="ffffff"/>
                </a:solidFill>
                <a:latin typeface="Times New Roman"/>
              </a:rPr>
              <a:t>SUBPLACAS   MENORES</a:t>
            </a:r>
            <a:r>
              <a:rPr b="0" lang="es-ES_tradnl" sz="1800" spc="-1" strike="noStrike">
                <a:solidFill>
                  <a:srgbClr val="ffffff"/>
                </a:solidFill>
                <a:latin typeface="Times New Roman"/>
              </a:rPr>
              <a:t>,   HABIENDO   UN  TOTAL  DE   DOCE   PLACAS  PRINCIPALES.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GRAFÍA  DE  LOS  BORDES   DE  PLACAS  PRINCIPALES  NO  PRESENTA  DIFICULTADES  PARA  SU  DEFINICIÓN,    PUESTO  QUE,  GENERALEMNTE,    ELLOS   ESTÁN  MARCADOS  POR  RASGOS  TOPOGRÁFICOS  MAYORES  ( FOSAS, DORSALES,  MONTAÑAS PLEG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1" lang="es-ES_tradnl" sz="2400" spc="-1" strike="noStrike">
                <a:solidFill>
                  <a:srgbClr val="ffffff"/>
                </a:solidFill>
                <a:latin typeface="Times New Roman"/>
              </a:rPr>
              <a:t>BORDES     DE     PLACAS</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RECONOCEN  TRES  CLASES  DE   BORDES  DE  PLACAS  Y  SE  DEFINEN  TRES  CLASES  DE  DEFORMACIÓN  Y  ACTIVIDAD GEOLÓG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  </a:t>
            </a:r>
            <a:r>
              <a:rPr b="1" lang="es-ES_tradnl" sz="1800" spc="-1" strike="noStrike">
                <a:solidFill>
                  <a:srgbClr val="ffffff"/>
                </a:solidFill>
                <a:latin typeface="Times New Roman"/>
              </a:rPr>
              <a:t>BORDES  DE  PLACAS  DI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  </a:t>
            </a:r>
            <a:r>
              <a:rPr b="1" lang="es-ES_tradnl" sz="1800" spc="-1" strike="noStrike">
                <a:solidFill>
                  <a:srgbClr val="ffffff"/>
                </a:solidFill>
                <a:latin typeface="Times New Roman"/>
              </a:rPr>
              <a:t>BORDES  DE  PLACAS  CONVERGE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  </a:t>
            </a:r>
            <a:r>
              <a:rPr b="1" lang="es-ES_tradnl" sz="1800" spc="-1" strike="noStrike">
                <a:solidFill>
                  <a:srgbClr val="ffffff"/>
                </a:solidFill>
                <a:latin typeface="Times New Roman"/>
              </a:rPr>
              <a:t>BORDES  DE   FALLAS  TRANSFORMANTE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OVIMIENTO     DE     LAS      PLACAS</a:t>
            </a:r>
            <a:endParaRPr b="0" lang="en-US" sz="2000" spc="-1" strike="noStrike">
              <a:solidFill>
                <a:srgbClr val="000000"/>
              </a:solidFill>
              <a:latin typeface="Times New Roman"/>
            </a:endParaRPr>
          </a:p>
        </p:txBody>
      </p:sp>
      <p:sp>
        <p:nvSpPr>
          <p:cNvPr id="64" name="PlaceHolder 2"/>
          <p:cNvSpPr>
            <a:spLocks noGrp="1"/>
          </p:cNvSpPr>
          <p:nvPr>
            <p:ph/>
          </p:nvPr>
        </p:nvSpPr>
        <p:spPr>
          <a:xfrm>
            <a:off x="457200" y="685800"/>
            <a:ext cx="830592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OVIMIENTO  DE  UNA SERIE  DE   PLACAS  RÍGIDAS  EN  UNA  </a:t>
            </a:r>
            <a:r>
              <a:rPr b="0" lang="es-ES_tradnl" sz="1800" spc="-1" strike="noStrike">
                <a:solidFill>
                  <a:srgbClr val="ffffff"/>
                </a:solidFill>
                <a:latin typeface="Times New Roman"/>
              </a:rPr>
              <a:t>ESFERA</a:t>
            </a:r>
            <a:r>
              <a:rPr b="0" lang="es-ES_tradnl" sz="1800" spc="-1" strike="noStrike">
                <a:solidFill>
                  <a:srgbClr val="ffffff"/>
                </a:solidFill>
                <a:latin typeface="Times New Roman"/>
              </a:rPr>
              <a:t>  PUEDE  SER  COMPLEJ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ADA  PLACA  SE  MUEVE  COMO  UNA  UNIDAD   INDEPENDIENTE,  EN  DIFERENTES DIRECCIONES  Y  A  DIFERENTES   VELOCIDADES  DE   CUALQUIER  OTRA  PLA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PLACAS  PUEDEN  SER  DESCRITOS  EN  TÉRMINOS  DE  UN  </a:t>
            </a:r>
            <a:r>
              <a:rPr b="0" i="1" lang="es-ES_tradnl" sz="1800" spc="-1" strike="noStrike">
                <a:solidFill>
                  <a:srgbClr val="ffffff"/>
                </a:solidFill>
                <a:latin typeface="Times New Roman"/>
              </a:rPr>
              <a:t>POLO  DE   ROTACIÓN</a:t>
            </a:r>
            <a:r>
              <a:rPr b="0" lang="es-ES_tradnl" sz="1800" spc="-1" strike="noStrike">
                <a:solidFill>
                  <a:srgbClr val="ffffff"/>
                </a:solidFill>
                <a:latin typeface="Times New Roman"/>
              </a:rPr>
              <a:t>    (GEOMETRÍA  ESFÉRIC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IENDO  MUY  COMPLEJO   DEFINIR   SUS  </a:t>
            </a:r>
            <a:r>
              <a:rPr b="0" lang="es-ES_tradnl" sz="1800" spc="-1" strike="noStrike">
                <a:solidFill>
                  <a:srgbClr val="ffffff"/>
                </a:solidFill>
                <a:latin typeface="Times New Roman"/>
              </a:rPr>
              <a:t>VALORES  ABSOLUTOS</a:t>
            </a:r>
            <a:r>
              <a:rPr b="0" lang="es-ES_tradnl" sz="1800" spc="-1" strike="noStrike">
                <a:solidFill>
                  <a:srgbClr val="ffffff"/>
                </a:solidFill>
                <a:latin typeface="Times New Roman"/>
              </a:rPr>
              <a:t>  SIN  CONTAR  PREVIAMENTE  CON  UN  VALOR  REFERENCIAL.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PROPIOS  </a:t>
            </a:r>
            <a:r>
              <a:rPr b="0" lang="es-ES_tradnl" sz="1800" spc="-1" strike="noStrike">
                <a:solidFill>
                  <a:srgbClr val="ffffff"/>
                </a:solidFill>
                <a:latin typeface="Times New Roman"/>
              </a:rPr>
              <a:t>MÁRGENES  DE  PLACA</a:t>
            </a:r>
            <a:r>
              <a:rPr b="0" lang="es-ES_tradnl" sz="1800" spc="-1" strike="noStrike">
                <a:solidFill>
                  <a:srgbClr val="ffffff"/>
                </a:solidFill>
                <a:latin typeface="Times New Roman"/>
              </a:rPr>
              <a:t>   NO  SON   FIJOS,    PUDIENDO ÉSTOS   MOVERSE  Y  DESPLAZARSE     MAS  DE  LO  QUE  LO  HACEN  LAS  PLACAS  MISM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lang="es-ES_tradnl" sz="1800" spc="-1" strike="noStrike">
                <a:solidFill>
                  <a:srgbClr val="ffffff"/>
                </a:solidFill>
                <a:latin typeface="Times New Roman"/>
              </a:rPr>
              <a:t>MOVIMIENTOS  RELATIVOS</a:t>
            </a:r>
            <a:r>
              <a:rPr b="0" lang="es-ES_tradnl" sz="1800" spc="-1" strike="noStrike">
                <a:solidFill>
                  <a:srgbClr val="ffffff"/>
                </a:solidFill>
                <a:latin typeface="Times New Roman"/>
              </a:rPr>
              <a:t>  DE   LAS  PLACAS,  SIN  EMBARGO,  ESTÁN   INDICADOS   POR  EL  RUMBO  Y  DIRECCIÓN   DE   LA  DORSAL   Y   POR  LAS  </a:t>
            </a:r>
            <a:r>
              <a:rPr b="0" lang="es-ES_tradnl" sz="1800" spc="-1" strike="noStrike">
                <a:solidFill>
                  <a:srgbClr val="ffffff"/>
                </a:solidFill>
                <a:latin typeface="Times New Roman"/>
              </a:rPr>
              <a:t>ZONAS  DE  FRACTURAS</a:t>
            </a:r>
            <a:r>
              <a:rPr b="0" lang="es-ES_tradnl" sz="1800" spc="-1" strike="noStrike">
                <a:solidFill>
                  <a:srgbClr val="ffffff"/>
                </a:solidFill>
                <a:latin typeface="Times New Roman"/>
              </a:rPr>
              <a:t>  ASOCIAD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ALORES    DEL    MOVIMIENTO    DE    LAS    PLACAS</a:t>
            </a:r>
            <a:endParaRPr b="0" lang="en-US" sz="2000" spc="-1" strike="noStrike">
              <a:solidFill>
                <a:srgbClr val="000000"/>
              </a:solidFill>
              <a:latin typeface="Times New Roman"/>
            </a:endParaRPr>
          </a:p>
        </p:txBody>
      </p:sp>
      <p:sp>
        <p:nvSpPr>
          <p:cNvPr id="66" name="PlaceHolder 2"/>
          <p:cNvSpPr>
            <a:spLocks noGrp="1"/>
          </p:cNvSpPr>
          <p:nvPr>
            <p:ph/>
          </p:nvPr>
        </p:nvSpPr>
        <p:spPr>
          <a:xfrm>
            <a:off x="304920" y="1523880"/>
            <a:ext cx="8534160" cy="37339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INVERSIONES  MAGNÉTICAS  DEL  FONDO  OCEÁNICO  PROVEEN   UN   MECANISMO   DE  TIEMPO   PARA  DETERMINAR  LA  VELOCIDAD  RELATIVA  DEL  MOVIMIENTO  DE  LAS   PLACA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E    PUEDE   MEDIR   LA  VELOCIDAD  DE  MOVIMIENTO  DE  LA PLACA  A PARTIR  DE  LA  EDAD  DE   LAS ROCAS  O   BANDAS  MAGNÉTICAS DEL  FONDO OCEÁNICO,  Y  SU  DISTACIA  O  RECORRIDO  DESDE  EL  CENTRO  DE LA   DORSAL  DONDE  SE  CREARON.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RESULTADO   DE  LAS  MEDICIONES   REALIZADAS MUESTRAN  QUE  LAS  PLACAS  SE  MUEVENN A  DIFERENTES  VALORES,   QUE  VAN  DESDE  1  A  18    </a:t>
            </a:r>
            <a:r>
              <a:rPr b="0" lang="es-ES_tradnl" sz="2000" spc="-1" strike="noStrike">
                <a:solidFill>
                  <a:srgbClr val="ffffff"/>
                </a:solidFill>
                <a:latin typeface="Times New Roman"/>
              </a:rPr>
              <a:t>cm</a:t>
            </a:r>
            <a:r>
              <a:rPr b="0" lang="es-ES_tradnl" sz="1800" spc="-1" strike="noStrike">
                <a:solidFill>
                  <a:srgbClr val="ffffff"/>
                </a:solidFill>
                <a:latin typeface="Times New Roman"/>
              </a:rPr>
              <a:t>   POR  AÑ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MECANISMOS    DE  MOVIMIENTO   PARA   LA TECTÓNICA   DE   PLACA</a:t>
            </a:r>
            <a:endParaRPr b="0" lang="en-US" sz="2000" spc="-1" strike="noStrike">
              <a:solidFill>
                <a:srgbClr val="000000"/>
              </a:solidFill>
              <a:latin typeface="Times New Roman"/>
            </a:endParaRPr>
          </a:p>
        </p:txBody>
      </p:sp>
      <p:sp>
        <p:nvSpPr>
          <p:cNvPr id="68" name="PlaceHolder 2"/>
          <p:cNvSpPr>
            <a:spLocks noGrp="1"/>
          </p:cNvSpPr>
          <p:nvPr>
            <p:ph/>
          </p:nvPr>
        </p:nvSpPr>
        <p:spPr>
          <a:xfrm>
            <a:off x="0" y="914040"/>
            <a:ext cx="9144000" cy="5638680"/>
          </a:xfrm>
          <a:prstGeom prst="rect">
            <a:avLst/>
          </a:prstGeom>
          <a:noFill/>
          <a:ln w="0">
            <a:noFill/>
          </a:ln>
        </p:spPr>
        <p:txBody>
          <a:bodyPr lIns="90000" rIns="90000" tIns="46800" bIns="46800" anchor="t">
            <a:normAutofit fontScale="94000"/>
          </a:bodyPr>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Á  CLARO  QUE  LAS PLACAS  SE  MUEVEN,   PERO   NO  ASÍ  EL  PERQUÉ   SE   MUEVEN.  </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MODELOS  PARA   EXPLICAR   EL    MECANISMO   DEL   MOVIMIENTO    DE   LAS   PLACAS   SUGIERE   QUE,   EL   PROCESO  FUNDAMENTAL  RESPONSABLE   DEL TRASLADO DE  LAS  PLACAS   SERÍA   LA  EXISTENCIA  DE   </a:t>
            </a:r>
            <a:r>
              <a:rPr b="0" i="1" lang="es-ES_tradnl" sz="1800" spc="-1" strike="noStrike">
                <a:solidFill>
                  <a:srgbClr val="ffffff"/>
                </a:solidFill>
                <a:latin typeface="Times New Roman"/>
              </a:rPr>
              <a:t>CELDAS  DE  CONVECCIÓN</a:t>
            </a:r>
            <a:r>
              <a:rPr b="0" lang="es-ES_tradnl" sz="1800" spc="-1" strike="noStrike">
                <a:solidFill>
                  <a:srgbClr val="ffffff"/>
                </a:solidFill>
                <a:latin typeface="Times New Roman"/>
              </a:rPr>
              <a:t>    EN   EL  </a:t>
            </a:r>
            <a:r>
              <a:rPr b="0" lang="es-ES_tradnl" sz="1800" spc="-1" strike="noStrike">
                <a:solidFill>
                  <a:srgbClr val="ffffff"/>
                </a:solidFill>
                <a:latin typeface="Times New Roman"/>
              </a:rPr>
              <a:t>MANTO,  </a:t>
            </a:r>
            <a:r>
              <a:rPr b="0" lang="es-ES_tradnl" sz="1800" spc="-1" strike="noStrike">
                <a:solidFill>
                  <a:srgbClr val="ffffff"/>
                </a:solidFill>
                <a:latin typeface="Times New Roman"/>
              </a:rPr>
              <a:t>Y  QUE  LAS  PLACAS  JUEGAN  UN   ROL  PEQUEÑO  O  NINGUNO   EN  LA  CONVECCIÓN.</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TROS   MODELOS  DE  LA  TEORÍA   DE   LA    CONVECCIÓN    CONSIDERAN  QUE   LAS   PLACAS    MISMAS   SON   PARTICIPANTES   ACTIVAS   EN   LOS  PROCESOS   DE   CONVECCIÓN , Y  NO  PASIVOS  PASAJEROS  ENCIMA  DE   UN  MANTO   “</a:t>
            </a:r>
            <a:r>
              <a:rPr b="0" i="1" lang="es-ES_tradnl" sz="1800" spc="-1" strike="noStrike">
                <a:solidFill>
                  <a:srgbClr val="ffffff"/>
                </a:solidFill>
                <a:latin typeface="Times New Roman"/>
              </a:rPr>
              <a:t>AGITADO  Y   MOVIDO”.   </a:t>
            </a:r>
            <a:r>
              <a:rPr b="0" lang="es-ES_tradnl" sz="1800" spc="-1" strike="noStrike">
                <a:solidFill>
                  <a:srgbClr val="ffffff"/>
                </a:solidFill>
                <a:latin typeface="Times New Roman"/>
              </a:rPr>
              <a:t>EN  ESTE  MODELO   LA </a:t>
            </a:r>
            <a:r>
              <a:rPr b="0" lang="es-ES_tradnl" sz="1800" spc="-1" strike="noStrike">
                <a:solidFill>
                  <a:srgbClr val="ffffff"/>
                </a:solidFill>
                <a:latin typeface="Times New Roman"/>
              </a:rPr>
              <a:t>LITÓSFERA</a:t>
            </a:r>
            <a:r>
              <a:rPr b="0" lang="es-ES_tradnl" sz="1800" spc="-1" strike="noStrike">
                <a:solidFill>
                  <a:srgbClr val="ffffff"/>
                </a:solidFill>
                <a:latin typeface="Times New Roman"/>
              </a:rPr>
              <a:t>  ES  LA  CAPA  SUPERIOR    FRÍA  DE  LA </a:t>
            </a:r>
            <a:r>
              <a:rPr b="0" lang="es-ES_tradnl" sz="1800" spc="-1" strike="noStrike">
                <a:solidFill>
                  <a:srgbClr val="ffffff"/>
                </a:solidFill>
                <a:latin typeface="Times New Roman"/>
              </a:rPr>
              <a:t> CONVECCIÓN</a:t>
            </a:r>
            <a:r>
              <a:rPr b="0" lang="es-ES_tradnl" sz="1800" spc="-1" strike="noStrike">
                <a:solidFill>
                  <a:srgbClr val="ffffff"/>
                </a:solidFill>
                <a:latin typeface="Times New Roman"/>
              </a:rPr>
              <a:t>,  Y  POR  SU  MAYOR  DENSIDAD  EVENTUALMENTE   SE  </a:t>
            </a:r>
            <a:r>
              <a:rPr b="0" lang="es-ES_tradnl" sz="1800" spc="-1" strike="noStrike">
                <a:solidFill>
                  <a:srgbClr val="ffffff"/>
                </a:solidFill>
                <a:latin typeface="Times New Roman"/>
              </a:rPr>
              <a:t>HUNDE</a:t>
            </a:r>
            <a:endParaRPr b="0" lang="en-US" sz="1800" spc="-1" strike="noStrike">
              <a:solidFill>
                <a:srgbClr val="000000"/>
              </a:solidFill>
              <a:latin typeface="Times New Roman"/>
            </a:endParaRPr>
          </a:p>
          <a:p>
            <a:pPr marL="322200" indent="-32220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FUERZAS QUE  INFLUENCIAN  EL  MOVIMIENTO  DE  UNA  PLACA  SERÍAN A)</a:t>
            </a:r>
            <a:r>
              <a:rPr b="0" lang="es-ES_tradnl" sz="3200" spc="-1" strike="noStrike">
                <a:solidFill>
                  <a:srgbClr val="ffffff"/>
                </a:solidFill>
                <a:latin typeface="Times New Roman"/>
              </a:rPr>
              <a:t>  </a:t>
            </a:r>
            <a:r>
              <a:rPr b="0" i="1" lang="es-ES_tradnl" sz="1800" spc="-1" strike="noStrike" u="sng">
                <a:solidFill>
                  <a:srgbClr val="ffffff"/>
                </a:solidFill>
                <a:uFillTx/>
                <a:latin typeface="Times New Roman"/>
              </a:rPr>
              <a:t>SLAB-PULL</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TRACCIÓN DE   PLACA),      B)   </a:t>
            </a:r>
            <a:r>
              <a:rPr b="0" i="1" lang="es-ES_tradnl" sz="1800" spc="-1" strike="noStrike" u="sng">
                <a:solidFill>
                  <a:srgbClr val="ffffff"/>
                </a:solidFill>
                <a:uFillTx/>
                <a:latin typeface="Times New Roman"/>
              </a:rPr>
              <a:t>RIDGE- PUSH</a:t>
            </a:r>
            <a:r>
              <a:rPr b="0" lang="es-ES_tradnl" sz="1800" spc="-1" strike="noStrike">
                <a:solidFill>
                  <a:srgbClr val="ffffff"/>
                </a:solidFill>
                <a:latin typeface="Times New Roman"/>
              </a:rPr>
              <a:t>   (EMPUJE   DE DORSAL),    C)   </a:t>
            </a:r>
            <a:r>
              <a:rPr b="0" i="1" lang="es-ES_tradnl" sz="1800" spc="-1" strike="noStrike" u="sng">
                <a:solidFill>
                  <a:srgbClr val="ffffff"/>
                </a:solidFill>
                <a:uFillTx/>
                <a:latin typeface="Times New Roman"/>
              </a:rPr>
              <a:t>BASAL-DRAG</a:t>
            </a:r>
            <a:r>
              <a:rPr b="0" lang="es-ES_tradnl" sz="1800" spc="-1" strike="noStrike">
                <a:solidFill>
                  <a:srgbClr val="ffffff"/>
                </a:solidFill>
                <a:latin typeface="Times New Roman"/>
              </a:rPr>
              <a:t>    (ARRASTRE    BASAL),      D)    </a:t>
            </a:r>
            <a:r>
              <a:rPr b="0" i="1" lang="es-ES_tradnl" sz="1800" spc="-1" strike="noStrike" u="sng">
                <a:solidFill>
                  <a:srgbClr val="ffffff"/>
                </a:solidFill>
                <a:uFillTx/>
                <a:latin typeface="Times New Roman"/>
              </a:rPr>
              <a:t>FRICCIÓN   A  LO LARGO  DE    LAS  FALLAS  TRANSFORMANTES</a:t>
            </a:r>
            <a:r>
              <a:rPr b="0" lang="es-ES_tradnl" sz="1800" spc="-1" strike="noStrike">
                <a:solidFill>
                  <a:srgbClr val="ffffff"/>
                </a:solidFill>
                <a:latin typeface="Times New Roman"/>
              </a:rPr>
              <a:t> ,   y   E)    </a:t>
            </a:r>
            <a:r>
              <a:rPr b="0" i="1" lang="es-ES_tradnl" sz="1800" spc="-1" strike="noStrike" u="sng">
                <a:solidFill>
                  <a:srgbClr val="ffffff"/>
                </a:solidFill>
                <a:uFillTx/>
                <a:latin typeface="Times New Roman"/>
              </a:rPr>
              <a:t>FRICCIÓN   ENTRE   SLABS  CONVERGENTES      DE   LA     LITÓSFERA   EN   LAS   ZONAS   DE  SUBDUCCIÓN</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80520"/>
            <a:ext cx="8534160" cy="221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L  EFECTO  EN  LA SUPERFICIE   TERRESTRE   DEL  MOVIMIENTO  DE  PLACAS  SE   APRECIA,   ESPECTACULARMENTE,    EN LA  INTENSA DEFORMACIÓN  DE LA CORTEZA  EN  LAS GRANDES CADENAS DE MONTAÑAS  DEL MUNDO,   DONDE   GRUESAS   SECUENCIAS   DE   ROCAS   SEDIMENTARIAS   ACUMULADAS  EN   CAPAS  HORIZONATALES  EN  EL   FONDO DE  LOS OCÉANOS,   SE  VEN     AHORA  PLEGADAS Y  FALLADAS EN  LAS MAS ALTAS CUMBRES DE  LA TIERRA ( </a:t>
            </a:r>
            <a:r>
              <a:rPr b="0" lang="es-ES_tradnl" sz="2000" spc="-1" strike="noStrike">
                <a:solidFill>
                  <a:srgbClr val="ffffff"/>
                </a:solidFill>
                <a:latin typeface="Times New Roman"/>
              </a:rPr>
              <a:t>Himalayas,    Andes,   Alpes, etc.</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4" name="PlaceHolder 2"/>
          <p:cNvSpPr>
            <a:spLocks noGrp="1"/>
          </p:cNvSpPr>
          <p:nvPr>
            <p:ph/>
          </p:nvPr>
        </p:nvSpPr>
        <p:spPr>
          <a:xfrm>
            <a:off x="380520" y="2666880"/>
            <a:ext cx="8534520" cy="3733920"/>
          </a:xfrm>
          <a:prstGeom prst="rect">
            <a:avLst/>
          </a:prstGeom>
          <a:noFill/>
          <a:ln w="0">
            <a:noFill/>
          </a:ln>
        </p:spPr>
        <p:txBody>
          <a:bodyPr lIns="90000" rIns="90000" tIns="46800" bIns="46800" anchor="t">
            <a:normAutofit fontScale="97000"/>
          </a:bodyPr>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LUGARES   DONDE   SE   SUCEDE   ESTA EXTRAORDINARIA        ACTIVIDAD   GEOLÓGICA,   RESPONSABLE   DE    LA FORMACIÓN  DE   CADENAS DE   MONTAÑAS PLEGADAS,   ES   EN   LOS MÁRGENES  DE  PLACA</a:t>
            </a: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EORÍA DE  PLACAS  PROVOCÓ UN CAMBIO AVASALLADOR  EN   LA COMPRENSIÓN  DEL  PLANETA  Y LAS FUERZAS QUER   LO PLASMAN.  ALGUNOS CIENTISTAS  HAN CONSIDERADO QUE  ESTE  CAMBIO CONCEPTUAL   FUE TAN    PROFUNDO   COMO  EL   OCURRIDO CUANDO  </a:t>
            </a:r>
            <a:r>
              <a:rPr b="1" lang="es-ES_tradnl" sz="1800" spc="-1" strike="noStrike">
                <a:solidFill>
                  <a:srgbClr val="ffffff"/>
                </a:solidFill>
                <a:latin typeface="Times New Roman"/>
              </a:rPr>
              <a:t>DARWIN</a:t>
            </a:r>
            <a:r>
              <a:rPr b="0" lang="es-ES_tradnl" sz="1800" spc="-1" strike="noStrike">
                <a:solidFill>
                  <a:srgbClr val="ffffff"/>
                </a:solidFill>
                <a:latin typeface="Times New Roman"/>
              </a:rPr>
              <a:t>  REORGANIZÓ LA BIOLOGÍA  EN EL SIGLO  DIECINUEVE, CUANDO </a:t>
            </a:r>
            <a:r>
              <a:rPr b="1" lang="es-ES_tradnl" sz="1800" spc="-1" strike="noStrike">
                <a:solidFill>
                  <a:srgbClr val="ffffff"/>
                </a:solidFill>
                <a:latin typeface="Times New Roman"/>
              </a:rPr>
              <a:t>COPÉRNICO</a:t>
            </a:r>
            <a:r>
              <a:rPr b="0" lang="es-ES_tradnl" sz="1800" spc="-1" strike="noStrike">
                <a:solidFill>
                  <a:srgbClr val="ffffff"/>
                </a:solidFill>
                <a:latin typeface="Times New Roman"/>
              </a:rPr>
              <a:t>  EN EL SIGLO  DIECISEIS  DETERMINÓ QUE LA TIERRA NO ERA EL CENTRO DEL UNIVERS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ERIVA     CONTINENTAL</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685800"/>
            <a:ext cx="861048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BIÉN  LA  TECTÓNICA DE   PLACAS  ES  RELATIVAMENTE   RECIENTE,  EL CONCEPTO   DE  </a:t>
            </a:r>
            <a:r>
              <a:rPr b="1"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S UNA IDEA  VIEJ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UE  INMEDIATAMENTE   DESPUÉS  DE   HABERSE   HECHO  EL   PRIMER  MAPA-MUNDI    PRECISO  Y  CONFIABLE,   EN   EL  SIGLO   DIECINUEVE,   QUE  LOS CIENTISTAS  NOTARON   LA CONFIGURACIÓN  TAN   PECULIAR   DE  LAS COSTAS   DE  LOS CONTINENTES,  ESPECIALMENTE   DE  </a:t>
            </a:r>
            <a:r>
              <a:rPr b="0" i="1" lang="es-ES_tradnl" sz="1800" spc="-1" strike="noStrike">
                <a:solidFill>
                  <a:srgbClr val="ffffff"/>
                </a:solidFill>
                <a:latin typeface="Times New Roman"/>
              </a:rPr>
              <a:t>AFRICA  Y  SUDAMÉRICA</a:t>
            </a:r>
            <a:r>
              <a:rPr b="0" lang="es-ES_tradnl" sz="1800" spc="-1" strike="noStrike">
                <a:solidFill>
                  <a:srgbClr val="ffffff"/>
                </a:solidFill>
                <a:latin typeface="Times New Roman"/>
              </a:rPr>
              <a:t>,  LOS QUE   PODÍAN  SER  UNIDOS  COMO  DOS PIEZAS DE UN PUZLE  SI   ELLOS PUDIESEN  SER  MOVID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O DE  LOS PRIMEROS ESTUDIOS  RELATIVAMENTE  PROFUNDOS SOBRE  EL TEMA,  FUE  EL  PRESENTADO  POR  </a:t>
            </a:r>
            <a:r>
              <a:rPr b="1" lang="es-ES_tradnl" sz="1800" spc="-1" strike="noStrike">
                <a:solidFill>
                  <a:srgbClr val="ffffff"/>
                </a:solidFill>
                <a:latin typeface="Times New Roman"/>
              </a:rPr>
              <a:t>ANTONIO   SNIDER-PELLIGRINI</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ancés</a:t>
            </a:r>
            <a:r>
              <a:rPr b="0" lang="es-ES_tradnl" sz="1800" spc="-1" strike="noStrike">
                <a:solidFill>
                  <a:srgbClr val="ffffff"/>
                </a:solidFill>
                <a:latin typeface="Times New Roman"/>
              </a:rPr>
              <a:t>),   EN 1858.    SIN  EMBRAGO,   EL  PRIMERO   EN  INVESTIGAR   EXHAUSTIVAMENTE   LA  IDEA   DE   UN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Y   DE  TRATAR  DE  CONVENCER  A  OTROS DE  TOMARLA   EN   SERIO,    FUE  </a:t>
            </a:r>
            <a:r>
              <a:rPr b="1" lang="es-ES_tradnl" sz="1800" spc="-1" strike="noStrike">
                <a:solidFill>
                  <a:srgbClr val="ffffff"/>
                </a:solidFill>
                <a:latin typeface="Times New Roman"/>
              </a:rPr>
              <a:t>ALFRED  WEGENER</a:t>
            </a:r>
            <a:r>
              <a:rPr b="0" lang="es-ES_tradnl" sz="1800" spc="-1" strike="noStrike">
                <a:solidFill>
                  <a:srgbClr val="ffffff"/>
                </a:solidFill>
                <a:latin typeface="Times New Roman"/>
              </a:rPr>
              <a:t>  (</a:t>
            </a:r>
            <a:r>
              <a:rPr b="0" lang="es-ES_tradnl" sz="2000" spc="-1" strike="noStrike">
                <a:solidFill>
                  <a:srgbClr val="ffffff"/>
                </a:solidFill>
                <a:latin typeface="Times New Roman"/>
              </a:rPr>
              <a:t>alemán</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SU  LIBRO   </a:t>
            </a:r>
            <a:r>
              <a:rPr b="0" i="1" lang="es-ES_tradnl" sz="1800" spc="-1" strike="noStrike">
                <a:solidFill>
                  <a:srgbClr val="ffffff"/>
                </a:solidFill>
                <a:latin typeface="Times New Roman"/>
              </a:rPr>
              <a:t>“ EL ORIGEN  DE  LOS CONTINENTES Y  OCÉANOS “</a:t>
            </a:r>
            <a:r>
              <a:rPr b="0" lang="es-ES_tradnl" sz="1800" spc="-1" strike="noStrike">
                <a:solidFill>
                  <a:srgbClr val="ffffff"/>
                </a:solidFill>
                <a:latin typeface="Times New Roman"/>
              </a:rPr>
              <a:t>  (1915),  </a:t>
            </a:r>
            <a:r>
              <a:rPr b="1" lang="es-ES_tradnl" sz="1800" spc="-1" strike="noStrike">
                <a:solidFill>
                  <a:srgbClr val="ffffff"/>
                </a:solidFill>
                <a:latin typeface="Times New Roman"/>
              </a:rPr>
              <a:t>WEGENER</a:t>
            </a:r>
            <a:r>
              <a:rPr b="0" lang="es-ES_tradnl" sz="1800" spc="-1" strike="noStrike">
                <a:solidFill>
                  <a:srgbClr val="ffffff"/>
                </a:solidFill>
                <a:latin typeface="Times New Roman"/>
              </a:rPr>
              <a:t>   PRESENTA  UNA  SERIE   DE  MAPAS QUE  MUESTRAN   LOS DIFERENTES   ESTADOS  DEL  PROCESO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APOYADO POR UNA VARIEDAD DE EVIDENCIAS GEOLÓGICAS,   Y  QUE   COMIENZA  EN  UNA  GRAN  MASA  CONTINENTAL   PRIMITIVA,   QUE  DENOMINÓ    </a:t>
            </a:r>
            <a:r>
              <a:rPr b="1" lang="es-ES_tradnl" sz="1800" spc="-1" strike="noStrike" u="sng">
                <a:solidFill>
                  <a:srgbClr val="ffffff"/>
                </a:solidFill>
                <a:uFillTx/>
                <a:latin typeface="Times New Roman"/>
              </a:rPr>
              <a:t>PANGEA</a:t>
            </a:r>
            <a:r>
              <a:rPr b="1" lang="es-ES_tradnl" sz="1800" spc="-1" strike="noStrike">
                <a:solidFill>
                  <a:srgbClr val="ffffff"/>
                </a:solidFill>
                <a:latin typeface="Times New Roman"/>
              </a:rPr>
              <a:t>   </a:t>
            </a:r>
            <a:r>
              <a:rPr b="0" lang="es-ES_tradnl" sz="1800" spc="-1" strike="noStrike">
                <a:solidFill>
                  <a:srgbClr val="ffffff"/>
                </a:solidFill>
                <a:latin typeface="Times New Roman"/>
              </a:rPr>
              <a:t> ( TODOS  LOS CONTINEN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83822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1" lang="es-ES_tradnl" sz="2000" spc="-1" strike="noStrike">
                <a:solidFill>
                  <a:srgbClr val="ffffff"/>
                </a:solidFill>
                <a:latin typeface="Times New Roman"/>
              </a:rPr>
              <a:t>LAS       EVIDENCIAS     GEOLÓGICAS     PRINCIPALES     SON</a:t>
            </a:r>
            <a:r>
              <a:rPr b="1"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8"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PALEONTOLÓGICAS</a:t>
            </a:r>
            <a:r>
              <a:rPr b="0" lang="es-ES_tradnl" sz="1800" spc="-1" strike="noStrike">
                <a:solidFill>
                  <a:srgbClr val="ffffff"/>
                </a:solidFill>
                <a:latin typeface="Times New Roman"/>
              </a:rPr>
              <a:t>.   REPTILES  TRIÁSICOS   </a:t>
            </a:r>
            <a:r>
              <a:rPr b="0" i="1" lang="es-ES_tradnl" sz="1800" spc="-1" strike="noStrike">
                <a:solidFill>
                  <a:srgbClr val="ffffff"/>
                </a:solidFill>
                <a:latin typeface="Times New Roman"/>
              </a:rPr>
              <a:t>LYSTROSAURUS,  </a:t>
            </a:r>
            <a:r>
              <a:rPr b="0" lang="es-ES_tradnl" sz="1800" spc="-1" strike="noStrike">
                <a:solidFill>
                  <a:srgbClr val="ffffff"/>
                </a:solidFill>
                <a:latin typeface="Times New Roman"/>
              </a:rPr>
              <a:t> ENCONTRADOS   EN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ANTÁRTICA</a:t>
            </a:r>
            <a:r>
              <a:rPr b="0" lang="es-ES_tradnl" sz="1800" spc="-1" strike="noStrike">
                <a:solidFill>
                  <a:srgbClr val="ffffff"/>
                </a:solidFill>
                <a:latin typeface="Times New Roman"/>
              </a:rPr>
              <a:t>   E  </a:t>
            </a:r>
            <a:r>
              <a:rPr b="0" lang="es-ES_tradnl" sz="1800" spc="-1" strike="noStrike">
                <a:solidFill>
                  <a:srgbClr val="ffffff"/>
                </a:solidFill>
                <a:latin typeface="Times New Roman"/>
              </a:rPr>
              <a:t> INDIA</a:t>
            </a:r>
            <a:r>
              <a:rPr b="0" lang="es-ES_tradnl" sz="1800" spc="-1" strike="noStrike">
                <a:solidFill>
                  <a:srgbClr val="ffffff"/>
                </a:solidFill>
                <a:latin typeface="Times New Roman"/>
              </a:rPr>
              <a:t>;  RESTOS DE</a:t>
            </a:r>
            <a:r>
              <a:rPr b="0" i="1" lang="es-ES_tradnl" sz="1800" spc="-1" strike="noStrike">
                <a:solidFill>
                  <a:srgbClr val="ffffff"/>
                </a:solidFill>
                <a:latin typeface="Times New Roman"/>
              </a:rPr>
              <a:t>  CYNOGNATH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ARGENTIN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REPTILES  DE AGUA  FRESCA</a:t>
            </a:r>
            <a:r>
              <a:rPr b="0" i="1" lang="es-ES_tradnl" sz="1800" spc="-1" strike="noStrike">
                <a:solidFill>
                  <a:srgbClr val="ffffff"/>
                </a:solidFill>
                <a:latin typeface="Times New Roman"/>
              </a:rPr>
              <a:t>  ( MESOSAURUS)   </a:t>
            </a:r>
            <a:r>
              <a:rPr b="0" lang="es-ES_tradnl" sz="1800" spc="-1" strike="noStrike">
                <a:solidFill>
                  <a:srgbClr val="ffffff"/>
                </a:solidFill>
                <a:latin typeface="Times New Roman"/>
              </a:rPr>
              <a:t>ENCONTRADOS  EN  </a:t>
            </a:r>
            <a:r>
              <a:rPr b="0" lang="es-ES_tradnl" sz="1800" spc="-1" strike="noStrike">
                <a:solidFill>
                  <a:srgbClr val="ffffff"/>
                </a:solidFill>
                <a:latin typeface="Times New Roman"/>
              </a:rPr>
              <a:t>BRASIL  </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AFRICA</a:t>
            </a:r>
            <a:r>
              <a:rPr b="0" lang="es-ES_tradnl" sz="1800" spc="-1" strike="noStrike">
                <a:solidFill>
                  <a:srgbClr val="ffffff"/>
                </a:solidFill>
                <a:latin typeface="Times New Roman"/>
              </a:rPr>
              <a:t>;   HELECHOS  </a:t>
            </a:r>
            <a:r>
              <a:rPr b="0" i="1" lang="es-ES_tradnl" sz="1800" spc="-1" strike="noStrike">
                <a:solidFill>
                  <a:srgbClr val="ffffff"/>
                </a:solidFill>
                <a:latin typeface="Times New Roman"/>
              </a:rPr>
              <a:t>GLOSSOPTERIS,   </a:t>
            </a:r>
            <a:r>
              <a:rPr b="0" lang="es-ES_tradnl" sz="1800" spc="-1" strike="noStrike">
                <a:solidFill>
                  <a:srgbClr val="ffffff"/>
                </a:solidFill>
                <a:latin typeface="Times New Roman"/>
              </a:rPr>
              <a:t>ENCONTRADOS   EN  TODOS  LOS CONTINENTES DEL  SUR</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LITOLÓGICAS  Y  ESTRUCTURALES</a:t>
            </a:r>
            <a:r>
              <a:rPr b="0" lang="es-ES_tradnl" sz="1800" spc="-1" strike="noStrike">
                <a:solidFill>
                  <a:srgbClr val="ffffff"/>
                </a:solidFill>
                <a:latin typeface="Times New Roman"/>
              </a:rPr>
              <a:t>.    CADENAS  DE MONTAÑAS  PLEGADAS  ANTIGUAS,  TIPOS  Y  SECUENCIAS DE  ROCAS,  CON  FÓSILES,    EDADES    Y   ESTILOS  ESTRUCTURALES  SIMILARES  Y EQUIVALENTES,  SE   EXTIENDEN  DE  ESTE  A OESTE    A  AMBOS LADOS DE  LA   COSTA ATLÁNTICA.  LAS  SIMILITUDES  GEOLÓGICAS  EN  LOS LADOS OPUESTOS  DEL  ATLÁNTICO   SE   ENCUENTRAN  SÓLO  EN ROCAS MAS VIEJAS QUE  EL  PERÍODO  CRETÁCICO,   QUE COMIENZA,  MAS O MENOS,   145 MILLONES  DE  AÑOS ATRÁ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GLACIARIAS</a:t>
            </a:r>
            <a:r>
              <a:rPr b="0" lang="es-ES_tradnl" sz="1800" spc="-1" strike="noStrike">
                <a:solidFill>
                  <a:srgbClr val="ffffff"/>
                </a:solidFill>
                <a:latin typeface="Times New Roman"/>
              </a:rPr>
              <a:t>:  DURANTE   LA ÚLTIMA  PARTE  DE  LA  ERA  PALEOZOICA  (+- 300  MILLONES  DE  AÑOS  ATRÁS) ,   LOS  GLACIARES CUBRIERON   ENORMES   SUPERFICIES  CONTINENTALES  EN  EL  HEMISFERIO  SUR.   LOS DEPÓSITOS  Y  MARCAS  DEJADOS  POR  ESTOS  GLACIARES ANTIGUOS  HAN   SIDO  RECONOCIDOS  EN </a:t>
            </a:r>
            <a:r>
              <a:rPr b="0" lang="es-ES_tradnl" sz="1800" spc="-1" strike="noStrike">
                <a:solidFill>
                  <a:srgbClr val="ffffff"/>
                </a:solidFill>
                <a:latin typeface="Times New Roman"/>
              </a:rPr>
              <a:t>AUSTRALIA,  INDIA,  AFRICA</a:t>
            </a:r>
            <a:r>
              <a:rPr b="0" lang="es-ES_tradnl" sz="1800" spc="-1" strike="noStrike">
                <a:solidFill>
                  <a:srgbClr val="ffffff"/>
                </a:solidFill>
                <a:latin typeface="Times New Roman"/>
              </a:rPr>
              <a:t> Y  </a:t>
            </a:r>
            <a:r>
              <a:rPr b="0" lang="es-ES_tradnl" sz="1800" spc="-1" strike="noStrike">
                <a:solidFill>
                  <a:srgbClr val="ffffff"/>
                </a:solidFill>
                <a:latin typeface="Times New Roman"/>
              </a:rPr>
              <a:t>SUDAMÉRICA</a:t>
            </a:r>
            <a:r>
              <a:rPr b="0" lang="es-ES_tradnl" sz="1800" spc="-1" strike="noStrike">
                <a:solidFill>
                  <a:srgbClr val="ffffff"/>
                </a:solidFill>
                <a:latin typeface="Times New Roman"/>
              </a:rPr>
              <a:t>, Y,  DE   ACUERDO A  LAS DIRECCIONES  DE  AVANCE  DEL  HIELO  DETERMINADAS,   HAN  PODIDO  SER  REORGANIZADOS  AGRUPANDO   LOS  CONTINENTES SEGÚN   LO  PROPUESTO   POR   WEGEN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VIDENCIAS  DE  OTROS  MODELOS  PALEOCLIMÁTICOS.       </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N ASIA,  EUROPA,  NORTE AMÉRICA,  SUDAMÉRICA,  AFRICA,  INDIA  Y  AUSTRALIA,    SE  RECONOCEN   NUMEROSAS  EVIDENCIAS  DE  MODELOS  PALEOCLIMÁTICOS  DIFERENTES DE  LOS ACTUALES,  QUE,   POR LAS POSICIONES  QUE  OCUPAN EN EL  PRESENTE   LOS CONTINENTES,   DESCONCIERTAN  Y  NO PUEDEN    ENTENDERSE,  A  MENOS  QUE     LOS  CONTINENTES  SE  AGRUPEN  COMO  LO  PROPONE  </a:t>
            </a:r>
            <a:r>
              <a:rPr b="1" lang="es-ES_tradnl" sz="1800" spc="-1" strike="noStrike">
                <a:solidFill>
                  <a:srgbClr val="ffffff"/>
                </a:solidFill>
                <a:latin typeface="Times New Roman"/>
              </a:rPr>
              <a:t>WEGEN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NO  OBSTANTE  TODAS  LAS  EVIDENCIAS</a:t>
            </a:r>
            <a:r>
              <a:rPr b="0" lang="es-ES_tradnl" sz="2000" spc="-1" strike="noStrike">
                <a:solidFill>
                  <a:srgbClr val="ffffff"/>
                </a:solidFill>
                <a:latin typeface="Times New Roman"/>
              </a:rPr>
              <a:t>   </a:t>
            </a:r>
            <a:r>
              <a:rPr b="0" lang="es-ES_tradnl" sz="1800" spc="-1" strike="noStrike">
                <a:solidFill>
                  <a:srgbClr val="ffffff"/>
                </a:solidFill>
                <a:latin typeface="Times New Roman"/>
              </a:rPr>
              <a:t>GEOLÓGICAS   DE   LA  CORTEZA  CONTINENTAL  PRESENTADAS   POR  </a:t>
            </a:r>
            <a:r>
              <a:rPr b="1" lang="es-ES_tradnl" sz="1800" spc="-1" strike="noStrike">
                <a:solidFill>
                  <a:srgbClr val="ffffff"/>
                </a:solidFill>
                <a:latin typeface="Times New Roman"/>
              </a:rPr>
              <a:t>WEGENER,    </a:t>
            </a:r>
            <a:r>
              <a:rPr b="0" lang="es-ES_tradnl" sz="1800" spc="-1" strike="noStrike">
                <a:solidFill>
                  <a:srgbClr val="ffffff"/>
                </a:solidFill>
                <a:latin typeface="Times New Roman"/>
              </a:rPr>
              <a:t>NO  SE  PUDO  DESARROLLAR  UNA  TEORÍA DE  LA  DINÁMICA  DE  LA  TIERRA,  MIENTRAS  NO  SE  TUVO  CONOCIMIENTO  ACERCA  DE  LA  NATURALEZA  DE   LA CORTEZA  OCEÁNICA.     ESTO  ÚLTIMO  VINO  A  SUCEDER  RECIÉN  A  COMIENZO  DE   LA  DÉCADA  DE  1960,   CUANDO  NUEVAS  TECNOLOGÍAS   E  INSTRUMENTOS  PERMITIERON  A  LOS  CIENTISTAS  MAPEAR,   CON    CONSIDERABLE  DETALLE ,   LA  TOPOGRAFÍA   DE    LOS  FONDOS  OCEÁNICOS  Y  ESTUDIAR    SU  GEOLOGÍA  Y  CARACTERÍSTICAS  PALEOMAGNÉTICAS</a:t>
            </a:r>
            <a:r>
              <a:rPr b="1" lang="es-ES_tradnl" sz="2000" spc="-1" strike="noStrike">
                <a:solidFill>
                  <a:srgbClr val="ffffff"/>
                </a:solidFill>
                <a:latin typeface="Times New Roman"/>
              </a:rPr>
              <a:t>     </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0" name="PlaceHolder 2"/>
          <p:cNvSpPr>
            <a:spLocks noGrp="1"/>
          </p:cNvSpPr>
          <p:nvPr>
            <p:ph type="title"/>
          </p:nvPr>
        </p:nvSpPr>
        <p:spPr>
          <a:xfrm rot="10780800">
            <a:off x="834840" y="-75960"/>
            <a:ext cx="8005680" cy="74880"/>
          </a:xfrm>
          <a:prstGeom prst="rect">
            <a:avLst/>
          </a:prstGeom>
          <a:noFill/>
          <a:ln w="0">
            <a:noFill/>
          </a:ln>
        </p:spPr>
        <p:txBody>
          <a:bodyPr lIns="90000" rIns="90000" tIns="28080" bIns="28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ffffff"/>
                </a:solidFill>
                <a:latin typeface="Times New Roman"/>
              </a:rPr>
              <a:t>.</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04920"/>
            <a:ext cx="85341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DESARROLLO   DE  LA  TEORÍA  DE   LA  TECTÓNICA  DE  PLACAS</a:t>
            </a:r>
            <a:endParaRPr b="0" lang="en-US" sz="2000" spc="-1" strike="noStrike">
              <a:solidFill>
                <a:srgbClr val="000000"/>
              </a:solidFill>
              <a:latin typeface="Times New Roman"/>
            </a:endParaRPr>
          </a:p>
        </p:txBody>
      </p:sp>
      <p:sp>
        <p:nvSpPr>
          <p:cNvPr id="52" name="PlaceHolder 2"/>
          <p:cNvSpPr>
            <a:spLocks noGrp="1"/>
          </p:cNvSpPr>
          <p:nvPr>
            <p:ph/>
          </p:nvPr>
        </p:nvSpPr>
        <p:spPr>
          <a:xfrm>
            <a:off x="0" y="762120"/>
            <a:ext cx="91440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COMPLETARSE   LOS  ESTUDIOS  TOPOGRÁFICOS  DE  LOS  FONDOS  OCEÁNICOS,  ÉSTOS  REVELARON  QUE  NUMEROSAS  CUENCAS OCEÁNICAS   ESTABAN    DIVIDIDAS  POR  UNA  ENORME   </a:t>
            </a:r>
            <a:r>
              <a:rPr b="0" i="1" lang="es-ES_tradnl" sz="1800" spc="-1" strike="noStrike">
                <a:solidFill>
                  <a:srgbClr val="ffffff"/>
                </a:solidFill>
                <a:latin typeface="Times New Roman"/>
              </a:rPr>
              <a:t>DORSAL</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DE  APROXIMADAMENTE  65.000  km   DE  LONGITUD  Y  1500  km   DE  ANCHO,   CON  UN  </a:t>
            </a:r>
            <a:r>
              <a:rPr b="0" i="1" lang="es-ES_tradnl" sz="1800" spc="-1" strike="noStrike">
                <a:solidFill>
                  <a:srgbClr val="ffffff"/>
                </a:solidFill>
                <a:latin typeface="Times New Roman"/>
              </a:rPr>
              <a:t>VALLE   CENTRAL</a:t>
            </a:r>
            <a:r>
              <a:rPr b="0" lang="es-ES_tradnl" sz="1800" spc="-1" strike="noStrike">
                <a:solidFill>
                  <a:srgbClr val="ffffff"/>
                </a:solidFill>
                <a:latin typeface="Times New Roman"/>
              </a:rPr>
              <a:t>  EN   SU  CRESTA,   DE  1 A  3  km   DE   PROFUNDIDAD,    QUE  APARECÍA   COMO  UN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ABRIÉNDOSE   BAJO  UNA  FUERZA  DE  EXTENSIÓ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OTRAS  EVIDENCIAS  ESTABLECIERON   CLARAS   DIFERENCIAS     ENTRE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Y  LA </a:t>
            </a:r>
            <a:r>
              <a:rPr b="0" i="1" lang="es-ES_tradnl" sz="1800" spc="-1" strike="noStrike">
                <a:solidFill>
                  <a:srgbClr val="ffffff"/>
                </a:solidFill>
                <a:latin typeface="Times New Roman"/>
              </a:rPr>
              <a:t> CONTINENTAL</a:t>
            </a:r>
            <a:r>
              <a:rPr b="0" lang="es-ES_tradnl" sz="1800" spc="-1" strike="noStrike">
                <a:solidFill>
                  <a:srgbClr val="ffffff"/>
                </a:solidFill>
                <a:latin typeface="Times New Roman"/>
              </a:rPr>
              <a:t>.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DE   NATURALEZA  BASÁLTICA,  MIENTRAS  LA  </a:t>
            </a:r>
            <a:r>
              <a:rPr b="0" i="1" lang="es-ES_tradnl" sz="1800" spc="-1" strike="noStrike">
                <a:solidFill>
                  <a:srgbClr val="ffffff"/>
                </a:solidFill>
                <a:latin typeface="Times New Roman"/>
              </a:rPr>
              <a:t>CONTINENTAL</a:t>
            </a:r>
            <a:r>
              <a:rPr b="0" lang="es-ES_tradnl" sz="1800" spc="-1" strike="noStrike">
                <a:solidFill>
                  <a:srgbClr val="ffffff"/>
                </a:solidFill>
                <a:latin typeface="Times New Roman"/>
              </a:rPr>
              <a:t>   ES  FUNDAMENTALMENTE  GRANÍTICA;  LA </a:t>
            </a:r>
            <a:r>
              <a:rPr b="0" i="1" lang="es-ES_tradnl" sz="1800" spc="-1" strike="noStrike">
                <a:solidFill>
                  <a:srgbClr val="ffffff"/>
                </a:solidFill>
                <a:latin typeface="Times New Roman"/>
              </a:rPr>
              <a:t>CORTEZA  OCEÁNICA</a:t>
            </a:r>
            <a:r>
              <a:rPr b="0" lang="es-ES_tradnl" sz="1800" spc="-1" strike="noStrike">
                <a:solidFill>
                  <a:srgbClr val="ffffff"/>
                </a:solidFill>
                <a:latin typeface="Times New Roman"/>
              </a:rPr>
              <a:t>  ES  MAS  JOVEN,  MAS  DELGADA  Y  NO  ESTÁ DEFORMADA  EN  ESTRUCTURAS  DE  PLIEGUES   ( APARENTEMENTE  NO   ESTÁ  SOMETIDA  A   FUERZAS  COMPRESIVAS)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SADO  EN  LAS  EVIDENCIAS  GEOLÓGICAS Y  SISMICAS   DE  LOS  FONDOS  OCEÁNICOS,   EN  1960,   </a:t>
            </a:r>
            <a:r>
              <a:rPr b="1" lang="es-ES_tradnl" sz="1800" spc="-1" strike="noStrike">
                <a:solidFill>
                  <a:srgbClr val="ffffff"/>
                </a:solidFill>
                <a:latin typeface="Times New Roman"/>
              </a:rPr>
              <a:t>H. HESS</a:t>
            </a:r>
            <a:r>
              <a:rPr b="0" lang="es-ES_tradnl" sz="1800" spc="-1" strike="noStrike">
                <a:solidFill>
                  <a:srgbClr val="ffffff"/>
                </a:solidFill>
                <a:latin typeface="Times New Roman"/>
              </a:rPr>
              <a:t>   PROPUSO  LA  TEORÍA  DE   LA  </a:t>
            </a:r>
            <a:r>
              <a:rPr b="0" i="1" lang="es-ES_tradnl" sz="1800" spc="-1" strike="noStrike">
                <a:solidFill>
                  <a:srgbClr val="ffffff"/>
                </a:solidFill>
                <a:latin typeface="Times New Roman"/>
              </a:rPr>
              <a:t>EXPANSIÓN  DE   LOS  FONDOS  OCEÁNICO</a:t>
            </a:r>
            <a:r>
              <a:rPr b="0" lang="es-ES_tradnl" sz="1800" spc="-1" strike="noStrike">
                <a:solidFill>
                  <a:srgbClr val="ffffff"/>
                </a:solidFill>
                <a:latin typeface="Times New Roman"/>
              </a:rPr>
              <a:t>    (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Y  SUGIRIÓ  UN  POSIBLE   MECANISMO  PARA   LA    </a:t>
            </a:r>
            <a:r>
              <a:rPr b="0" i="1" lang="es-ES_tradnl" sz="1800" spc="-1" strike="noStrike">
                <a:solidFill>
                  <a:srgbClr val="ffffff"/>
                </a:solidFill>
                <a:latin typeface="Times New Roman"/>
              </a:rPr>
              <a:t>DERIVA  CONTINE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4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685440"/>
            <a:ext cx="8458200" cy="571500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H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OSTULÓ  LA  IDEA  QUE  LOS  FONDOS   OCEÁNICOS  SE  ABREN  Y   SEPARAN    SIMÉTRICAMENTE   HACIA  AMBOS  LADOS  DE  LA  DORSAL,    IMPULSADOS  POR  </a:t>
            </a:r>
            <a:r>
              <a:rPr b="0" i="1" lang="es-ES_tradnl" sz="1800" spc="-1" strike="noStrike">
                <a:solidFill>
                  <a:srgbClr val="ffffff"/>
                </a:solidFill>
                <a:latin typeface="Times New Roman"/>
              </a:rPr>
              <a:t>CORRIENTES   DE  CONVECCIÓN</a:t>
            </a:r>
            <a:r>
              <a:rPr b="0" lang="es-ES_tradnl" sz="1800" spc="-1" strike="noStrike">
                <a:solidFill>
                  <a:srgbClr val="ffffff"/>
                </a:solidFill>
                <a:latin typeface="Times New Roman"/>
              </a:rPr>
              <a:t>    EN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ACUERDO  CON  ESTA   TEORÍA,   LA  CONTINUA   EXPANSIÓN  PRODUCE   FRACTURAS  EN   EL  </a:t>
            </a:r>
            <a:r>
              <a:rPr b="0" i="1" lang="es-ES_tradnl" sz="1800" spc="-1" strike="noStrike" u="sng">
                <a:solidFill>
                  <a:srgbClr val="ffffff"/>
                </a:solidFill>
                <a:uFillTx/>
                <a:latin typeface="Times New Roman"/>
              </a:rPr>
              <a:t>RIFT  VALLEY</a:t>
            </a:r>
            <a:r>
              <a:rPr b="0" lang="es-ES_tradnl" sz="1800" spc="-1" strike="noStrike">
                <a:solidFill>
                  <a:srgbClr val="ffffff"/>
                </a:solidFill>
                <a:latin typeface="Times New Roman"/>
              </a:rPr>
              <a:t>,   EN  EL  CUAL  ES INYECTADO  </a:t>
            </a:r>
            <a:r>
              <a:rPr b="0" i="1" lang="es-ES_tradnl" sz="1800" spc="-1" strike="noStrike">
                <a:solidFill>
                  <a:srgbClr val="ffffff"/>
                </a:solidFill>
                <a:latin typeface="Times New Roman"/>
              </a:rPr>
              <a:t>MAGMA</a:t>
            </a:r>
            <a:r>
              <a:rPr b="0" lang="es-ES_tradnl" sz="1800" spc="-1" strike="noStrike">
                <a:solidFill>
                  <a:srgbClr val="ffffff"/>
                </a:solidFill>
                <a:latin typeface="Times New Roman"/>
              </a:rPr>
              <a:t>   DESDE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PARA  CONVERTIRSE  EN  CORTEZA  OCEÁNICA.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CORRIENTES  DE   CONVECCIÓN  EN  EL </a:t>
            </a:r>
            <a:r>
              <a:rPr b="0" i="1" lang="es-ES_tradnl" sz="1800" spc="-1" strike="noStrike">
                <a:solidFill>
                  <a:srgbClr val="ffffff"/>
                </a:solidFill>
                <a:latin typeface="Times New Roman"/>
              </a:rPr>
              <a:t> MANTO</a:t>
            </a:r>
            <a:r>
              <a:rPr b="0" lang="es-ES_tradnl" sz="1800" spc="-1" strike="noStrike">
                <a:solidFill>
                  <a:srgbClr val="ffffff"/>
                </a:solidFill>
                <a:latin typeface="Times New Roman"/>
              </a:rPr>
              <a:t>   LLEVAN  A   LOS CONTINENTES  LEJOS  DEL  </a:t>
            </a:r>
            <a:r>
              <a:rPr b="0" i="1" lang="es-ES_tradnl" sz="1800" spc="-1" strike="noStrike" u="sng">
                <a:solidFill>
                  <a:srgbClr val="ffffff"/>
                </a:solidFill>
                <a:uFillTx/>
                <a:latin typeface="Times New Roman"/>
              </a:rPr>
              <a:t>RIDGE </a:t>
            </a:r>
            <a:r>
              <a:rPr b="0" lang="es-ES_tradnl" sz="1800" spc="-1" strike="noStrike">
                <a:solidFill>
                  <a:srgbClr val="ffffff"/>
                </a:solidFill>
                <a:latin typeface="Times New Roman"/>
              </a:rPr>
              <a:t> OCEÁNICO ,  EN  DIRECCIÓN   A  LAS   </a:t>
            </a:r>
            <a:r>
              <a:rPr b="0" i="1" lang="es-ES_tradnl" sz="1800" spc="-1" strike="noStrike" u="sng">
                <a:solidFill>
                  <a:srgbClr val="ffffff"/>
                </a:solidFill>
                <a:uFillTx/>
                <a:latin typeface="Times New Roman"/>
              </a:rPr>
              <a:t>FOSAS</a:t>
            </a:r>
            <a:r>
              <a:rPr b="0" lang="es-ES_tradnl" sz="1800" spc="-1" strike="noStrike">
                <a:solidFill>
                  <a:srgbClr val="ffffff"/>
                </a:solidFill>
                <a:latin typeface="Times New Roman"/>
              </a:rPr>
              <a:t>   OCEÁNICAS PROFUNDA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DÓND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CORTEZA  OCEÁNICA  DESCIENDE   CON  LA CORRIENTE  DE   CONVECCIÓN  DESCENDENTE,  Y  ES ABSORVIDA  NUEVAMENTE   POR  EL  MA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DO,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REDEFINE  LA  TEORÍA  DE   LA  </a:t>
            </a:r>
            <a:r>
              <a:rPr b="0" i="1" lang="es-ES_tradnl" sz="1800" spc="-1" strike="noStrike">
                <a:solidFill>
                  <a:srgbClr val="ffffff"/>
                </a:solidFill>
                <a:latin typeface="Times New Roman"/>
              </a:rPr>
              <a:t>DERIVA  CONTINENTAL</a:t>
            </a:r>
            <a:r>
              <a:rPr b="0" lang="es-ES_tradnl" sz="1800" spc="-1" strike="noStrike">
                <a:solidFill>
                  <a:srgbClr val="ffffff"/>
                </a:solidFill>
                <a:latin typeface="Times New Roman"/>
              </a:rPr>
              <a:t>  EN  EL ESQUEMA  DE   LA  </a:t>
            </a:r>
            <a:r>
              <a:rPr b="0" i="1" lang="es-ES_tradnl" sz="1800" spc="-1" strike="noStrike">
                <a:solidFill>
                  <a:srgbClr val="ffffff"/>
                </a:solidFill>
                <a:latin typeface="Times New Roman"/>
              </a:rPr>
              <a:t>EXPANSIÓN  DE LOS  FONDOS</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OCEÁNICOS</a:t>
            </a:r>
            <a:r>
              <a:rPr b="0" lang="es-ES_tradnl" sz="1800" spc="-1" strike="noStrike">
                <a:solidFill>
                  <a:srgbClr val="ffffff"/>
                </a:solidFill>
                <a:latin typeface="Times New Roman"/>
              </a:rPr>
              <a:t>,   LOS QUE  SE   REGENERAN   COMPLETAMENTE  EN  UN  LAPSO  DE  200   O  300  MILLONES DE AÑOS.</a:t>
            </a:r>
            <a:r>
              <a:rPr b="0" i="1" lang="es-ES_tradnl" sz="1800" spc="-1" strike="noStrike" u="sng">
                <a:solidFill>
                  <a:srgbClr val="ffffff"/>
                </a:solidFill>
                <a:uFillTx/>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N  TESTEO   DE  ESTAS  IDEAS,  USANDO  NUEVOS  ESTUDIOS  EN  </a:t>
            </a:r>
            <a:r>
              <a:rPr b="0" i="1" lang="es-ES_tradnl" sz="1800" spc="-1" strike="noStrike">
                <a:solidFill>
                  <a:srgbClr val="ffffff"/>
                </a:solidFill>
                <a:latin typeface="Times New Roman"/>
              </a:rPr>
              <a:t>PALEOMAGNETISMO</a:t>
            </a:r>
            <a:r>
              <a:rPr b="0" lang="es-ES_tradnl" sz="1800" spc="-1" strike="noStrike">
                <a:solidFill>
                  <a:srgbClr val="ffffff"/>
                </a:solidFill>
                <a:latin typeface="Times New Roman"/>
              </a:rPr>
              <a:t>,   SIGUIÓ   PRONTO   A  LA  TEORÍA  DEL  </a:t>
            </a:r>
            <a:r>
              <a:rPr b="0" i="1" lang="es-ES_tradnl" sz="1800" spc="-1" strike="noStrike" u="sng">
                <a:solidFill>
                  <a:srgbClr val="ffffff"/>
                </a:solidFill>
                <a:uFillTx/>
                <a:latin typeface="Times New Roman"/>
              </a:rPr>
              <a:t>“SEAFLOOR  SPREDING”</a:t>
            </a:r>
            <a:r>
              <a:rPr b="0" lang="es-ES_tradnl" sz="1800" spc="-1" strike="noStrike">
                <a:solidFill>
                  <a:srgbClr val="ffffff"/>
                </a:solidFill>
                <a:latin typeface="Times New Roman"/>
              </a:rPr>
              <a:t>    PLANTEADA  POR  </a:t>
            </a:r>
            <a:r>
              <a:rPr b="1" lang="es-ES_tradnl" sz="1800" spc="-1" strike="noStrike">
                <a:solidFill>
                  <a:srgbClr val="ffffff"/>
                </a:solidFill>
                <a:latin typeface="Times New Roman"/>
              </a:rPr>
              <a:t>H.  H.</a:t>
            </a:r>
            <a:r>
              <a:rPr b="0" lang="es-ES_tradnl" sz="1800" spc="-1" strike="noStrike">
                <a:solidFill>
                  <a:srgbClr val="ffffff"/>
                </a:solidFill>
                <a:latin typeface="Times New Roman"/>
              </a:rPr>
              <a:t>  </a:t>
            </a:r>
            <a:r>
              <a:rPr b="1" lang="es-ES_tradnl" sz="1800" spc="-1" strike="noStrike">
                <a:solidFill>
                  <a:srgbClr val="ffffff"/>
                </a:solidFill>
                <a:latin typeface="Times New Roman"/>
              </a:rPr>
              <a:t>HESS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304560"/>
            <a:ext cx="8305920" cy="60195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1963,   </a:t>
            </a:r>
            <a:r>
              <a:rPr b="1" lang="es-ES_tradnl" sz="1800" spc="-1" strike="noStrike">
                <a:solidFill>
                  <a:srgbClr val="ffffff"/>
                </a:solidFill>
                <a:latin typeface="Times New Roman"/>
              </a:rPr>
              <a:t>FRED VINE  Y  D.H. MATTHEWS, </a:t>
            </a:r>
            <a:r>
              <a:rPr b="0" lang="es-ES_tradnl" sz="1800" spc="-1" strike="noStrike">
                <a:solidFill>
                  <a:srgbClr val="ffffff"/>
                </a:solidFill>
                <a:latin typeface="Times New Roman"/>
              </a:rPr>
              <a:t>  ESTABLECIERON   UNA   METODOLOGÍA   PARA  USAR  PALEOMAGNETISMO  PARA  TESTEAR  LA  IDEA  DEL  </a:t>
            </a:r>
            <a:r>
              <a:rPr b="0" i="1" lang="es-ES_tradnl" sz="1800" spc="-1" strike="noStrike" u="sng">
                <a:solidFill>
                  <a:srgbClr val="ffffff"/>
                </a:solidFill>
                <a:uFillTx/>
                <a:latin typeface="Times New Roman"/>
              </a:rPr>
              <a:t>“SEAFLOOR  SPREADING”</a:t>
            </a:r>
            <a:r>
              <a:rPr b="0" lang="es-ES_tradnl" sz="1800" spc="-1" strike="noStrike">
                <a:solidFill>
                  <a:srgbClr val="ffffff"/>
                </a:solidFill>
                <a:latin typeface="Times New Roman"/>
              </a:rPr>
              <a:t>   DE  </a:t>
            </a:r>
            <a:r>
              <a:rPr b="1" lang="es-ES_tradnl" sz="1800" spc="-1" strike="noStrike">
                <a:solidFill>
                  <a:srgbClr val="ffffff"/>
                </a:solidFill>
                <a:latin typeface="Times New Roman"/>
              </a:rPr>
              <a:t>HEES</a:t>
            </a:r>
            <a:r>
              <a:rPr b="0" lang="es-ES_tradnl" sz="1800" spc="-1" strike="noStrike">
                <a:solidFill>
                  <a:srgbClr val="ffffff"/>
                </a:solidFill>
                <a:latin typeface="Times New Roman"/>
              </a:rPr>
              <a:t>.    ELLOS  SUGIRIERON  QUE  SI  LA  </a:t>
            </a:r>
            <a:r>
              <a:rPr b="0" i="1" lang="es-ES_tradnl" sz="1800" spc="-1" strike="noStrike">
                <a:solidFill>
                  <a:srgbClr val="ffffff"/>
                </a:solidFill>
                <a:latin typeface="Times New Roman"/>
              </a:rPr>
              <a:t>EXPANSIÓN   DE    LOS  FONDOS  OCEÁNICOS</a:t>
            </a:r>
            <a:r>
              <a:rPr b="0" lang="es-ES_tradnl" sz="1800" spc="-1" strike="noStrike">
                <a:solidFill>
                  <a:srgbClr val="ffffff"/>
                </a:solidFill>
                <a:latin typeface="Times New Roman"/>
              </a:rPr>
              <a:t>   HABÍA  OCURRIDO  EFECTIVAMENTE,   ÉSTA  DEBÍA  ESTAR  REGISTRADA  EN  LOS  BASALTOS  DE  LA CORTEZA  OCEÁNIC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I  LOS  INVERSIONES  DEL  CAMPO MAGNÉTICO  ERAN  INTERMITENTES,  LOS   NUEVOS  BASALTOS  FORMADOS  EN  LA CRESTA   LAS   DORSALES  OCEÁNICAS   DEBÍAN  MAGNETIZARSE   DE  ACUERDO  A  LA  POLARIDAD  DEL TIEMPO  EN  QUE  ELLOS  EXTRUYEN  Y  SALEN  A  LA  SUPERFICIE.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A FORMA,   A  MEDIDA  QUE  SE EXPANDE  EL  FONDO OCEÁNICO,  SERIES SIMÉTRICAS   DE   BANDAS  MAGNÉTICAS,  CON ALTERNANCIAS  DE POLARIDADES  NORMALES  E  INVERSAS,  SE  PRESERVAN  EN LA CORTEZA  A LO LARGO  Y A  CADA  LADO  DE   LA DORSAL   OCEÁNIC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BSECUENTES  INVESTIGACIONES  PROBARON  LA  VERACIADD   DE   ESTA  TEORÍ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5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VIDENCIAS  DE  LOS SEDIMENTOS  EN  EL FONDO   OCEÁNICO.          </a:t>
            </a:r>
            <a:r>
              <a:rPr b="0" lang="es-ES_tradnl" sz="1800" spc="-1" strike="noStrike">
                <a:solidFill>
                  <a:srgbClr val="ffffff"/>
                </a:solidFill>
                <a:latin typeface="Times New Roman"/>
              </a:rPr>
              <a:t> LAS  EVIDENCIAS MAS  CONVINCENTES DE   LA  TEORÍA  DE   LA TECTÓNICA  DE  PLACAS   VIENE   DE  LOS   SONDAJES   RECIENTES,   PRACTICADOS  EN  LOS  SEDIMENTOS    DE   LOS   FONDOS  OCEÁNICO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u="sng">
                <a:solidFill>
                  <a:srgbClr val="ffffff"/>
                </a:solidFill>
                <a:uFillTx/>
                <a:latin typeface="Times New Roman"/>
              </a:rPr>
              <a:t>“</a:t>
            </a:r>
            <a:r>
              <a:rPr b="0" i="1" lang="es-ES_tradnl" sz="1800" spc="-1" strike="noStrike" u="sng">
                <a:solidFill>
                  <a:srgbClr val="ffffff"/>
                </a:solidFill>
                <a:uFillTx/>
                <a:latin typeface="Times New Roman"/>
              </a:rPr>
              <a:t>DEEP-SEA   DRILLING  PROYECT</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COMENZÓ  EN  1968,   CON  EL  BUQUE  CIENTÍFICO  </a:t>
            </a:r>
            <a:r>
              <a:rPr b="0" i="1" lang="es-ES_tradnl" sz="1800" spc="-1" strike="noStrike">
                <a:solidFill>
                  <a:srgbClr val="ffffff"/>
                </a:solidFill>
                <a:latin typeface="Times New Roman"/>
              </a:rPr>
              <a:t>GLOMAR  CHALLENGER.,  </a:t>
            </a:r>
            <a:r>
              <a:rPr b="0" lang="es-ES_tradnl" sz="1800" spc="-1" strike="noStrike">
                <a:solidFill>
                  <a:srgbClr val="ffffff"/>
                </a:solidFill>
                <a:latin typeface="Times New Roman"/>
              </a:rPr>
              <a:t>QUE  PODÍA  PERFORAR  MAS  DE  6.000   m    EN EL  OCÉANO  ABIERTO.  LAS  PERFORACIONES  CONFIRMARON   LAS  CONCLUSIONES   MOSTRADAS   POR    LOS ESTUDIOS    PALEOMAGNÉTICOS,  PROVEYENDO    MUESTRAS  DE  LOS FÓSILES   ACUMULADOS   EN  LAS DIFERENTES PORCIONES DEL  FONDO  OCEÁNIC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MAS  JÓVENES  APOYADOS  EN  LOS  BASALTOS  DEL FONDO  ACÉNICO   SE   ENCONTRARON  CERCA  DEL </a:t>
            </a:r>
            <a:r>
              <a:rPr b="0" i="1" lang="es-ES_tradnl" sz="1800" spc="-1" strike="noStrike" u="sng">
                <a:solidFill>
                  <a:srgbClr val="ffffff"/>
                </a:solidFill>
                <a:uFillTx/>
                <a:latin typeface="Times New Roman"/>
              </a:rPr>
              <a:t> RIDG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OCEÁNICO,  DONDE  NUEVA  CORTEZA  COMIENZA  A  CREARSE.        LEJOS  DEL  </a:t>
            </a:r>
            <a:r>
              <a:rPr b="0" i="1" lang="es-ES_tradnl" sz="1800" spc="-1" strike="noStrike" u="sng">
                <a:solidFill>
                  <a:srgbClr val="ffffff"/>
                </a:solidFill>
                <a:uFillTx/>
                <a:latin typeface="Times New Roman"/>
              </a:rPr>
              <a:t>RIDGE</a:t>
            </a:r>
            <a:r>
              <a:rPr b="0" lang="es-ES_tradnl" sz="1800" spc="-1" strike="noStrike">
                <a:solidFill>
                  <a:srgbClr val="ffffff"/>
                </a:solidFill>
                <a:latin typeface="Times New Roman"/>
              </a:rPr>
              <a:t>,  LOS  SEDIMENTOS QUE  ESTÁN   DIRECTAMENTE   SOBRE   LOS  BASALTOS MAS  VIEJOS,   SON  TAMBIÉN  PROGRESIVAMENTE   MAS  VIEJO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SEDIMENTOS  OCEÁNICOS MAGNETIZADOS,  MUESTRA  TAMBIÉN   LA  ALTERNANCIA  DE  POLARIDAD,   IGUAL  A   LOS  BASALTOS  INFRAYACENT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EDICIONES  EN  </a:t>
            </a:r>
            <a:r>
              <a:rPr b="0" i="1" lang="es-ES_tradnl" sz="1800" spc="-1" strike="noStrike">
                <a:solidFill>
                  <a:srgbClr val="ffffff"/>
                </a:solidFill>
                <a:latin typeface="Times New Roman"/>
              </a:rPr>
              <a:t>TASAS</a:t>
            </a:r>
            <a:r>
              <a:rPr b="0" lang="es-ES_tradnl" sz="1800" spc="-1" strike="noStrike">
                <a:solidFill>
                  <a:srgbClr val="ffffff"/>
                </a:solidFill>
                <a:latin typeface="Times New Roman"/>
              </a:rPr>
              <a:t>  DE  SEDIMENTACIÓN  EN  EL OCÉANO  ABIERTO   MUESTRAN  QUE  CADA  1.000  AÑOS  SE  ACUMULAN  3  mm  DE  ARCILLA   ROJA,    LO  QUE  SIGNIFICARÍAN  1.500  m    SI   LA  CUENCA  OCEÁNICA  EXISTIESE  DESDE   EL  CÁMBRICO,  LO   QUE  JAMÁS  OCURRE.   EL  MÁXIMO ESPESOR  MEDIDO ES  DE   300  m ,    LO  QUE  SUGIERE  UNA  EDAD  JOVEN  PARA  LOS  FONDOS OCEÁNICOS,   NO   MAYOR  DE  200 MILLONES  DE AÑ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1:16Z</dcterms:modified>
  <cp:revision>41</cp:revision>
  <dc:subject/>
  <dc:title>LA    TECTÓNICA    DE    PLACAS</dc:title>
</cp:coreProperties>
</file>